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D053-7320-4B53-A5EA-828812C9B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7731-2744-41AE-9B87-BD0D548EE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53D8-8553-4DB5-8884-08834A9D8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BD2C-CA9B-4F0A-9CDC-BA3922FFE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D276-AA16-4DC6-B72A-2C13F4ADF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E2DF-E9E9-4543-A22B-EDD84CCDC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2099-3129-42F2-A755-F9103283C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082E-E42B-4101-B826-7914BC62F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39F4-74AB-4438-B38C-A84BD658C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BC9B-5556-4552-AF27-96FDE7F6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3A6-AD0A-4B9A-9EE5-15808A91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59D-8F7D-4A89-915B-7FA26E30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C6A-38B1-46E1-BDE6-F93BB1A5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95B-DC33-42AC-A721-FE3B8516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3D4-FE29-451E-8695-39930804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1F6-AA8E-4462-81E7-39084012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B73A-CA47-4580-AAAF-3C5D7E00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09D-B67A-49D2-BB69-62B47B7A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85A-0286-4B63-80A4-1D54907A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D757-77BD-4BFD-81D6-5D4F961C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46F5-9100-431C-8858-4F4FFBC8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2923-F300-4AB5-A797-B0E6D555C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dding and Subtracting Inte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228600" y="213372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11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me Signs --&gt; Add and keep the sig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13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685800" y="83808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kay, here’s one with a variabl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xample #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11b - (-2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is equivalent t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2 – (-3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AnswerNow"/>
          <p:cNvGrpSpPr/>
          <p:nvPr/>
        </p:nvGrpSpPr>
        <p:grpSpPr>
          <a:xfrm>
            <a:off x="1066680" y="4876920"/>
            <a:ext cx="2222640" cy="444240"/>
            <a:chOff x="1066680" y="4876920"/>
            <a:chExt cx="2222640" cy="444240"/>
          </a:xfrm>
        </p:grpSpPr>
        <p:sp>
          <p:nvSpPr>
            <p:cNvPr id="81" name="ANShape"/>
            <p:cNvSpPr/>
            <p:nvPr/>
          </p:nvSpPr>
          <p:spPr>
            <a:xfrm>
              <a:off x="1066680" y="4876920"/>
              <a:ext cx="2222640" cy="444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ANText"/>
            <p:cNvSpPr/>
            <p:nvPr/>
          </p:nvSpPr>
          <p:spPr>
            <a:xfrm>
              <a:off x="1066680" y="487692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roadway"/>
                </a:rPr>
                <a:t>Answer N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CorShape1"/>
          <p:cNvSpPr/>
          <p:nvPr/>
        </p:nvSpPr>
        <p:spPr>
          <a:xfrm rot="10800000">
            <a:off x="161640" y="249984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2 +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12 -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2 -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 – (-2) =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AnswerNow"/>
          <p:cNvGrpSpPr/>
          <p:nvPr/>
        </p:nvGrpSpPr>
        <p:grpSpPr>
          <a:xfrm>
            <a:off x="1066680" y="4876920"/>
            <a:ext cx="2222640" cy="444240"/>
            <a:chOff x="1066680" y="4876920"/>
            <a:chExt cx="2222640" cy="444240"/>
          </a:xfrm>
        </p:grpSpPr>
        <p:sp>
          <p:nvSpPr>
            <p:cNvPr id="87" name="ANShape"/>
            <p:cNvSpPr/>
            <p:nvPr/>
          </p:nvSpPr>
          <p:spPr>
            <a:xfrm>
              <a:off x="1066680" y="4876920"/>
              <a:ext cx="2222640" cy="444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NText"/>
            <p:cNvSpPr/>
            <p:nvPr/>
          </p:nvSpPr>
          <p:spPr>
            <a:xfrm>
              <a:off x="1066680" y="487692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roadway"/>
                </a:rPr>
                <a:t>Answer N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CorShape1"/>
          <p:cNvSpPr/>
          <p:nvPr/>
        </p:nvSpPr>
        <p:spPr>
          <a:xfrm rot="10800000">
            <a:off x="161640" y="396360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Use the number line if necess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(-1) + (-3)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)  5 + (-7)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1104840" y="1803240"/>
          <a:ext cx="68961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803240"/>
                    <a:ext cx="6896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5"/>
          <p:cNvSpPr/>
          <p:nvPr/>
        </p:nvSpPr>
        <p:spPr>
          <a:xfrm>
            <a:off x="1141560" y="1963800"/>
            <a:ext cx="7315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(-4) + 8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ddition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When the signs are the sam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 and keep the sig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(-2) + (-4) = -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When the signs are differen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TRACT and use the sign of the larger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(-2) + 4 =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2 + (-4) = 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Karaoke Ti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ition Rule: Sung to the tune of “Row, row, row, your boat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Same signs add and keep,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ifferent signs subtract,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keep the sign of the higher number,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then it will be exac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r class do different roun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1 + 3 =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AnswerNow"/>
          <p:cNvGrpSpPr/>
          <p:nvPr/>
        </p:nvGrpSpPr>
        <p:grpSpPr>
          <a:xfrm>
            <a:off x="1066680" y="4876920"/>
            <a:ext cx="2222640" cy="444240"/>
            <a:chOff x="1066680" y="4876920"/>
            <a:chExt cx="2222640" cy="444240"/>
          </a:xfrm>
        </p:grpSpPr>
        <p:sp>
          <p:nvSpPr>
            <p:cNvPr id="61" name="ANShape"/>
            <p:cNvSpPr/>
            <p:nvPr/>
          </p:nvSpPr>
          <p:spPr>
            <a:xfrm>
              <a:off x="1066680" y="4876920"/>
              <a:ext cx="2222640" cy="444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ANText"/>
            <p:cNvSpPr/>
            <p:nvPr/>
          </p:nvSpPr>
          <p:spPr>
            <a:xfrm>
              <a:off x="1066680" y="487692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roadway"/>
                </a:rPr>
                <a:t>Answer N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CorShape1"/>
          <p:cNvSpPr/>
          <p:nvPr/>
        </p:nvSpPr>
        <p:spPr>
          <a:xfrm rot="10800000">
            <a:off x="161640" y="323172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6 + (-3) =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AnswerNow"/>
          <p:cNvGrpSpPr/>
          <p:nvPr/>
        </p:nvGrpSpPr>
        <p:grpSpPr>
          <a:xfrm>
            <a:off x="1066680" y="4876920"/>
            <a:ext cx="2222640" cy="444240"/>
            <a:chOff x="1066680" y="4876920"/>
            <a:chExt cx="2222640" cy="444240"/>
          </a:xfrm>
        </p:grpSpPr>
        <p:sp>
          <p:nvSpPr>
            <p:cNvPr id="67" name="ANShape"/>
            <p:cNvSpPr/>
            <p:nvPr/>
          </p:nvSpPr>
          <p:spPr>
            <a:xfrm>
              <a:off x="1066680" y="4876920"/>
              <a:ext cx="2222640" cy="444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NText"/>
            <p:cNvSpPr/>
            <p:nvPr/>
          </p:nvSpPr>
          <p:spPr>
            <a:xfrm>
              <a:off x="1066680" y="4876920"/>
              <a:ext cx="222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roadway"/>
                </a:rPr>
                <a:t>Answer N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CorShape1"/>
          <p:cNvSpPr/>
          <p:nvPr/>
        </p:nvSpPr>
        <p:spPr>
          <a:xfrm rot="10800000">
            <a:off x="161640" y="1767960"/>
            <a:ext cx="368280" cy="36828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a27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000" spc="-1" strike="noStrike" u="sng">
                <a:solidFill>
                  <a:srgbClr val="fc0128"/>
                </a:solidFill>
                <a:uFillTx/>
                <a:latin typeface="Times New Roman"/>
              </a:rPr>
              <a:t>additive inverses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r </a:t>
            </a:r>
            <a:r>
              <a:rPr b="1" lang="en-US" sz="4000" spc="-1" strike="noStrike" u="sng">
                <a:solidFill>
                  <a:srgbClr val="fc0128"/>
                </a:solidFill>
                <a:uFillTx/>
                <a:latin typeface="Times New Roman"/>
              </a:rPr>
              <a:t>opposit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of two numbers add to equal zer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of:  3 + (-3) = 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will use the additive inverses for subtraction proble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762120" y="2057400"/>
            <a:ext cx="7924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dditive inverse of 3 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the difference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 - 3   and   7 + (-3)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 - 3 =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and 7 + (-3) = </a:t>
            </a: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only difference is that 7 - 3 is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ubtrac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roblem and 7 + (-3) is a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ddi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robl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63de8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63de8"/>
                </a:solidFill>
                <a:latin typeface="Times New Roman"/>
              </a:rPr>
              <a:t>SUBTRACTING IS THE SAME AS ADDING THE OPPOSITE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Times New Roman"/>
              </a:rPr>
              <a:t>(Keep-change-ch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subtracting, change the subtraction to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dding the opposite (</a:t>
            </a:r>
            <a:r>
              <a:rPr b="0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keep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4000" spc="-1" strike="noStrike" u="sng">
                <a:solidFill>
                  <a:srgbClr val="fc0128"/>
                </a:solidFill>
                <a:uFillTx/>
                <a:latin typeface="Times New Roman"/>
              </a:rPr>
              <a:t>chang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4000" spc="-1" strike="noStrike" u="sng">
                <a:solidFill>
                  <a:srgbClr val="fc0128"/>
                </a:solidFill>
                <a:uFillTx/>
                <a:latin typeface="Times New Roman"/>
              </a:rPr>
              <a:t>chang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nd then follow your addition ru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#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- 4 - (-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. Signs --&gt; Subtract and use larger 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 #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- 3 -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 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Signs --&gt; Add and keep the 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-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0:49:38Z</dcterms:created>
  <dc:creator>Skip Tyler</dc:creator>
  <dc:description/>
  <dc:language>en-US</dc:language>
  <cp:lastModifiedBy>psd</cp:lastModifiedBy>
  <dcterms:modified xsi:type="dcterms:W3CDTF">2012-09-21T12:09:13Z</dcterms:modified>
  <cp:revision>20</cp:revision>
  <dc:subject/>
  <dc:title>Add and Subtract Integers</dc:title>
</cp:coreProperties>
</file>